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75A7-6881-4D66-9887-7426A53F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6F7D-C0C0-417D-ACC5-C92EB043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404-715B-449B-87AA-D60CAA68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4098-D5D2-4DDE-896C-9F60A65E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58C3-479A-4F51-89C4-9DFCEEA3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7BE2-9A22-4B44-8455-A49F1271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ECD8-C657-4FA6-B51C-E360E870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1671-448D-423E-AD9E-A98DA114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2D57-D889-430C-B781-2FF82381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8E94-67C9-42ED-B4F8-9F13221A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7B0D-6D3B-43D1-89C3-F51C3FE4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032-2C5C-44A7-8B7B-8DFD7E5C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BC59-621C-4832-8A6E-8EF1673E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DD43-3E02-4E1A-835D-219231E3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72AB-B603-4164-A79F-88F6C7A4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D1B2-8284-4FAB-B80F-305BEF7A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162E-0426-4961-882F-EEC06467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BF4-5839-46C3-A59D-8A373D49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77A-C4DD-4D6B-BDEB-1EE61CE9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A64-CE45-4528-96F3-1F1CC7AF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82D-9016-475F-B3C2-2F34192C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38E-1598-4207-A8BE-02B53378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507-A4AA-46E2-8183-8D8F1805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DCF-01AB-40A0-9844-D9CAFCD4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F2A4-8F72-40FC-9AEB-B8E897E83A5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C740-56BC-4977-BC44-A814D18878B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oyecto TIC en un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entro Educativ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50800" y="2841480"/>
            <a:ext cx="3540240" cy="31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4E21-8082-44C7-A66C-A3E0E2562A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36600" y="173160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umentar el interés por aprend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vorecer el aprendizaje cooperativo y soci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stimular creatividad e imaginació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DA3-578B-44D5-99F4-CF0839AED4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ocument"/>
          <p:cNvSpPr/>
          <p:nvPr/>
        </p:nvSpPr>
        <p:spPr>
          <a:xfrm>
            <a:off x="1190520" y="1666800"/>
            <a:ext cx="4057920" cy="50198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36600" y="1731960"/>
            <a:ext cx="401184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nfatizar la vertiente comunicativa de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Potenciar la integración de alumnado con necesidades educativas especial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miliarizarse y concienciarse del nuevo modelo de formación: autónomo y a distanci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7E3-898C-4E95-9549-A2F679C67A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Unidades Didácticas que incorporen el uso de nuevas tecnologí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daptar o diseñar multimedias que favorezcan el aprendizaje constructi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xperimentar modelos de enseñanza alternativos a la instrucción direc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programas de apoyo al alumnado con necesidades educ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A38-C97D-45D4-B29B-636BB8D2B4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esarrollar modelos de evaluación sobre la utilización de los medios tecnológic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Participar en iniciativas de formación presencial y a distancia sobre el uso de las NNT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Reconocer el nuevo rol del profesor: diseñador y facilitador de entorn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spcAft>
                <a:spcPts val="15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BBD-7C3C-46A2-A613-5A426921D7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06560" y="2200320"/>
            <a:ext cx="1674720" cy="1496880"/>
            <a:chOff x="1006560" y="2200320"/>
            <a:chExt cx="1674720" cy="14968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015920" y="220032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404720" y="2486160"/>
              <a:ext cx="698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06560" y="324648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Uso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54560" y="3246480"/>
            <a:ext cx="2266920" cy="1695240"/>
            <a:chOff x="3454560" y="3246480"/>
            <a:chExt cx="2266920" cy="1695240"/>
          </a:xfrm>
        </p:grpSpPr>
        <p:sp>
          <p:nvSpPr>
            <p:cNvPr id="136" name="computr3"/>
            <p:cNvSpPr/>
            <p:nvPr/>
          </p:nvSpPr>
          <p:spPr>
            <a:xfrm>
              <a:off x="3454560" y="3246480"/>
              <a:ext cx="2266920" cy="1695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3640" y="3362400"/>
              <a:ext cx="101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Verdana"/>
                </a:rPr>
                <a:t>Proyec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9680" y="3673440"/>
              <a:ext cx="66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T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747880" y="1600200"/>
            <a:ext cx="1674720" cy="1496880"/>
            <a:chOff x="2747880" y="1600200"/>
            <a:chExt cx="1674720" cy="14968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757240" y="16002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62960" y="1886040"/>
              <a:ext cx="666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V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7880" y="26463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Valoració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84720" y="1619280"/>
            <a:ext cx="1674720" cy="1496880"/>
            <a:chOff x="5184720" y="1619280"/>
            <a:chExt cx="1674720" cy="149688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5194080" y="161928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625360" y="1905120"/>
              <a:ext cx="616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4720" y="266544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Alfabet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Digi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40360" y="2496960"/>
            <a:ext cx="1674720" cy="1496880"/>
            <a:chOff x="6840360" y="2496960"/>
            <a:chExt cx="1674720" cy="149688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6849720" y="2496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287480" y="2782800"/>
              <a:ext cx="60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0360" y="3543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ten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vers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40360" y="4370400"/>
            <a:ext cx="1674720" cy="1496880"/>
            <a:chOff x="6840360" y="4370400"/>
            <a:chExt cx="1674720" cy="1496880"/>
          </a:xfrm>
        </p:grpSpPr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6849720" y="43704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312680" y="4656240"/>
              <a:ext cx="5554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40360" y="54165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Escol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970520" y="5119560"/>
            <a:ext cx="1674720" cy="1496880"/>
            <a:chOff x="4970520" y="5119560"/>
            <a:chExt cx="1674720" cy="1496880"/>
          </a:xfrm>
        </p:grpSpPr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4979880" y="5119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414400" y="5405400"/>
              <a:ext cx="612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G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70520" y="6165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Gest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dmin. y Tu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89120" y="5281560"/>
            <a:ext cx="1674720" cy="1496880"/>
            <a:chOff x="2589120" y="5281560"/>
            <a:chExt cx="1674720" cy="1496880"/>
          </a:xfrm>
        </p:grpSpPr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2598480" y="5281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069720" y="5567400"/>
              <a:ext cx="540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F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89120" y="6327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Form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Profesor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38080" y="4071960"/>
            <a:ext cx="1674720" cy="1496880"/>
            <a:chOff x="838080" y="4071960"/>
            <a:chExt cx="1674720" cy="1496880"/>
          </a:xfrm>
        </p:grpSpPr>
        <p:pic>
          <p:nvPicPr>
            <p:cNvPr id="164" name="" descr=""/>
            <p:cNvPicPr/>
            <p:nvPr/>
          </p:nvPicPr>
          <p:blipFill>
            <a:blip r:embed="rId8"/>
            <a:stretch/>
          </p:blipFill>
          <p:spPr>
            <a:xfrm>
              <a:off x="847440" y="4071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240920" y="4357800"/>
              <a:ext cx="69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5118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señ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494-1CE1-46B4-83F6-FE80F456A95A}" type="slidenum">
              <a:t>1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1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Tecl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 Windows: Programas y Ventan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Word: edición básica de un documento: título, imagen y tex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Internet: websites conocid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Mi Primera Encar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vío y Recepción de Email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221-72EB-4913-8A92-19B72B8693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2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Teclad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ntorno Windows: Archivos y Dis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Word: edición de un documento: formato de imagen y text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Navegación por Internet:herramientas escolares y buscad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Herramientas escolares de Encart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mails con adjunt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scaneado de imágenes propi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CBA-7187-435A-8127-9954EC8275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tras 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Escola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Administrativa y Tutor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Valoración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Diseño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D8F-1212-43ED-8CCA-DD1B91CCCB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blioteca Escol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-&gt; Mediate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catálogo: Abies 2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Consulta web del catálogo: Bonsai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Formación de usuari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oyecto interdisciplinar por hit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7f7f7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40" y="5210280"/>
            <a:ext cx="2033640" cy="16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065-F146-4030-A790-DEBE440F80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estión Administrativa y Tutor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lantillas documentación oficial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scola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conómi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Noticias web para famili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tutorial: listas y evaluacione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4AC-7CC3-4473-9276-056583646E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Índi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ntex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ínea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z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a Web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rmación del Profesora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yec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erspectivas del futu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720C-F4E6-47C5-8555-054D970972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loración de Materi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quip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Criterios de valoración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1) Profesor Marc Per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técnicos: interacción, fiabilidad, navegación, etc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estéticos: entorno, cal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de utilidad didáctica: estrategias, evaluación, continu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pedagógicos: refuerzos, motivación, buscado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laboración de una guía de explotación didáctic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Presentación del materi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Revisión del Plan Anual de Uso de Material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50C-F477-4066-B229-78A23F57D1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eño de Material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2548080"/>
            <a:ext cx="7313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ecesidad del diseño: escasez de iniciativas editorial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s de publicación: Aula - Red local – Web del centro – Aula virtual - Otr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Herramientas: Word – FrontPage - PowerPoint – Autor NEA - Hot Potatoes – JClic – Flash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43800" y="530280"/>
            <a:ext cx="2039760" cy="20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259-BA51-4DC4-992A-E3D46BA7E9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orarios y espac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gram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 Coordinador T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70F-9543-41C8-BB9A-4B90CA75B8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Horarios y espac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90840" y="1827360"/>
            <a:ext cx="709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quincenal. Cada grupo asiste con profesor especialista (Inglés-Música-Llíngua-Plástica) (20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 Alfabetización Digital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un profesor responsable de Ciclo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BE Biblioteca Escolar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tención a la Diversidad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(apoyos): resto horario lectivo disponibl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FP Formación profesorado.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Horario de dedicación exclusiva (2 horas semanales: individual y grupo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6440" y="4495680"/>
            <a:ext cx="1594080" cy="21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FA5-7AB3-4C80-B37E-0ACCB28DD5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Organigram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410080" y="2540160"/>
            <a:ext cx="3601440" cy="1402560"/>
            <a:chOff x="5410080" y="2540160"/>
            <a:chExt cx="3601440" cy="1402560"/>
          </a:xfrm>
        </p:grpSpPr>
        <p:sp>
          <p:nvSpPr>
            <p:cNvPr id="194" name=""/>
            <p:cNvSpPr/>
            <p:nvPr/>
          </p:nvSpPr>
          <p:spPr>
            <a:xfrm>
              <a:off x="5410080" y="2540160"/>
              <a:ext cx="1308240" cy="1226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52160" y="3422520"/>
              <a:ext cx="225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V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Profesores de Apoy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, Logopedia y 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010200" y="1724040"/>
            <a:ext cx="2193840" cy="1225440"/>
            <a:chOff x="6010200" y="1724040"/>
            <a:chExt cx="2193840" cy="1225440"/>
          </a:xfrm>
        </p:grpSpPr>
        <p:sp>
          <p:nvSpPr>
            <p:cNvPr id="197" name=""/>
            <p:cNvSpPr/>
            <p:nvPr/>
          </p:nvSpPr>
          <p:spPr>
            <a:xfrm>
              <a:off x="6461280" y="2016000"/>
              <a:ext cx="1168200" cy="9334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0200" y="1724040"/>
              <a:ext cx="219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GA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utores y Secretarí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16640" y="2062080"/>
            <a:ext cx="1717200" cy="1704960"/>
            <a:chOff x="1016640" y="2062080"/>
            <a:chExt cx="1717200" cy="1704960"/>
          </a:xfrm>
        </p:grpSpPr>
        <p:sp>
          <p:nvSpPr>
            <p:cNvPr id="200" name=""/>
            <p:cNvSpPr/>
            <p:nvPr/>
          </p:nvSpPr>
          <p:spPr>
            <a:xfrm>
              <a:off x="1380960" y="2579760"/>
              <a:ext cx="1352880" cy="11872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16640" y="20620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E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sponsab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de la 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83000" y="3173400"/>
            <a:ext cx="2939760" cy="1347840"/>
            <a:chOff x="783000" y="3173400"/>
            <a:chExt cx="2939760" cy="1347840"/>
          </a:xfrm>
        </p:grpSpPr>
        <p:sp>
          <p:nvSpPr>
            <p:cNvPr id="203" name=""/>
            <p:cNvSpPr/>
            <p:nvPr/>
          </p:nvSpPr>
          <p:spPr>
            <a:xfrm>
              <a:off x="2185920" y="3173400"/>
              <a:ext cx="1536840" cy="1347840"/>
            </a:xfrm>
            <a:prstGeom prst="pie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3000" y="3848040"/>
              <a:ext cx="149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Grupos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57040" y="4297320"/>
            <a:ext cx="2229120" cy="2050200"/>
            <a:chOff x="1157040" y="4297320"/>
            <a:chExt cx="2229120" cy="2050200"/>
          </a:xfrm>
        </p:grpSpPr>
        <p:sp>
          <p:nvSpPr>
            <p:cNvPr id="206" name=""/>
            <p:cNvSpPr/>
            <p:nvPr/>
          </p:nvSpPr>
          <p:spPr>
            <a:xfrm>
              <a:off x="1228680" y="4297320"/>
              <a:ext cx="1893960" cy="169236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7040" y="6040440"/>
              <a:ext cx="22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FP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odos los 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012480" y="2070000"/>
            <a:ext cx="2462040" cy="1758960"/>
            <a:chOff x="3012480" y="2070000"/>
            <a:chExt cx="2462040" cy="1758960"/>
          </a:xfrm>
        </p:grpSpPr>
        <p:sp>
          <p:nvSpPr>
            <p:cNvPr id="209" name=""/>
            <p:cNvSpPr/>
            <p:nvPr/>
          </p:nvSpPr>
          <p:spPr>
            <a:xfrm>
              <a:off x="3436920" y="2481120"/>
              <a:ext cx="1373040" cy="1347840"/>
            </a:xfrm>
            <a:prstGeom prst="pi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12480" y="2070000"/>
              <a:ext cx="246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V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Coordinador Ciclo y u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 por especial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91120" y="3259080"/>
            <a:ext cx="4073760" cy="1347840"/>
            <a:chOff x="4191120" y="3259080"/>
            <a:chExt cx="4073760" cy="1347840"/>
          </a:xfrm>
        </p:grpSpPr>
        <p:sp>
          <p:nvSpPr>
            <p:cNvPr id="212" name=""/>
            <p:cNvSpPr/>
            <p:nvPr/>
          </p:nvSpPr>
          <p:spPr>
            <a:xfrm>
              <a:off x="4191120" y="3259080"/>
              <a:ext cx="1536480" cy="134784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57560" y="3968640"/>
              <a:ext cx="240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U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utores, Especialista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y Apoyos a Grup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05400" y="4297320"/>
            <a:ext cx="2553120" cy="1999440"/>
            <a:chOff x="4505400" y="4297320"/>
            <a:chExt cx="2553120" cy="1999440"/>
          </a:xfrm>
        </p:grpSpPr>
        <p:sp>
          <p:nvSpPr>
            <p:cNvPr id="215" name=""/>
            <p:cNvSpPr/>
            <p:nvPr/>
          </p:nvSpPr>
          <p:spPr>
            <a:xfrm>
              <a:off x="4505400" y="4297320"/>
              <a:ext cx="1666800" cy="1584360"/>
            </a:xfrm>
            <a:prstGeom prst="pi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2640" y="5989680"/>
              <a:ext cx="23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D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Un profesor por Cicl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2BA-4D40-4BEC-AD23-C74BE69894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l Coordinador TI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Sus funciones más destacadas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Apoyar al profesorado en la integración de las TICs en la docencia diaria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Organizar y gestionar los recursos asegurando su correcto funcionamient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laborar en la implantación de los servicios de la Intrane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Dinamizar los proyectos del centro relacionados con NNT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Gestionar el presupuesto específic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ordinar la comunicación del centro con las instituciones en temas TIC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018040" y="2141640"/>
            <a:ext cx="3665520" cy="28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3CF-C382-4EE8-9185-B1A009FB79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a Web del Cen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tu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incip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F209-F146-4C59-9C84-EF4A368E31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web del centro I: Situa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Recurso importante en el proyecto TIC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etende los mismos objetivos que el plan TIC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Debe superar el enfoque inicial de “escaparate”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rtal de recursos de continua referencia del alumnado: de lo conocido a lo desconoci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1CB-0918-4128-A674-D3A7FFFA6C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a web del centro II: Princip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Usabil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entorno intuitivo, amigable y adaptado a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ctiv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participación de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Enfoque educativo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omentar un uso más racional de los medios tecnológi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Infor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comunicar los detalles del proyecto educativo al resto de la comunidad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Portal de recursos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integrar múltiples recursos para convertirlo en sitio de referencia permanent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ni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acilitador de experiencias didácticas de innov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0E9-CE53-45DC-9A6C-0CA19BD582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mación del profesorado: Mod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00120" y="1827360"/>
            <a:ext cx="628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actor clave de la integración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minario de formación en centr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Bajo la dirección del coordinador y con el apoyo del Centr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Sesión quincenal de 2 hor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lterna formación impartida por el coordinador con trabajo individual, de pequeño y de gran grup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presencial: cursos del Centro de Profesor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a distancia: Consejería y CNIC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680" y="3591000"/>
            <a:ext cx="2209680" cy="30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D0F-1028-46B8-856C-6BFDC34823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tuación actual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incipio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3E5-7FBB-4369-922C-70DFB4E650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valuación del proye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alumn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feso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ces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1A3-9629-41FC-932B-066B445D9B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alumn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cilita la creatividad y la imagin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vorece la comunicación del alumnado con su entorn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sibilita la integración social de alumnos con ne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tencia el uso de nuevos entornos de aprendiza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9D2-3E7C-4547-B612-6066DC5EF5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valuación del alumno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integración TIC supone construcción del conocimien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mejoran las habilidades de pensamiento crític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adquieren valores relacionados con el uso de las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estimula el interés por aprender en alumnos con ne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fomenta el trabajo cooperativ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AAE-3156-4F88-8A4A-FA1914BE2C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39880" y="1827000"/>
            <a:ext cx="694368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incorporado TICs como instrumentos cognitivos en el desarrollo de Unidades Didáctic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aprovechamiento de las TICs es el má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 participado activamente en la valoración, adaptación y diseño de recurs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experimentado modelos de enseñanza alternativos a la inst.direc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00F-8547-4452-AEBF-40EDA7F613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39880" y="1827360"/>
            <a:ext cx="69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ha puesto en práctica algún modelo de eval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la formación recibida es de utilidad en la docencia diari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existe sensibilidad hacia el cambio de rol del profesor que supone la integración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1B8-CAC4-4053-8B5C-51FEDC05C3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19080" y="1827360"/>
            <a:ext cx="686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os recursos son adecuados y se utilizan de forma eficaz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organización de recursos es idóne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xiste compromiso de todos los participantes: alumnado, profesorado, familias, et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observa especial incidencia en la práctica docente y familia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trabajo del coordinador de TICs e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200160" y="5181480"/>
            <a:ext cx="1307880" cy="1227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89160" y="5573880"/>
            <a:ext cx="1054080" cy="988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FBD-5392-4C5D-A35E-7FF34A5FA8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4280" y="2189160"/>
            <a:ext cx="4559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Aprendizaje sobre/con la tecnologí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Programas basados en la filosofía del refuerz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El éxito de una aplicación también depende del contexto de us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1720" y="3922560"/>
            <a:ext cx="2818080" cy="272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56120" y="1482840"/>
            <a:ext cx="5778360" cy="3375000"/>
          </a:xfrm>
          <a:prstGeom prst="cloudCallout">
            <a:avLst>
              <a:gd name="adj1" fmla="val -40740"/>
              <a:gd name="adj2" fmla="val 69990"/>
            </a:avLst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01C-1B3A-4230-B93F-77663433A0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2027160"/>
            <a:ext cx="48880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tecnología no garantiza motiv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o del ordenador como un lib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gramas para reforzar conocimientos o bien para mejorar la productivid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flicto de competencias entre el ser humano y la máquin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217600">
            <a:off x="6362640" y="4673160"/>
            <a:ext cx="3149640" cy="304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9960" y="1444680"/>
            <a:ext cx="6458040" cy="4079880"/>
          </a:xfrm>
          <a:prstGeom prst="cloudCallout">
            <a:avLst>
              <a:gd name="adj1" fmla="val 45106"/>
              <a:gd name="adj2" fmla="val 39532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88F-9CDD-4A27-B53F-E738CC7649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0080" y="188424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mentar creación frente a reproduc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vorecer el aprendizaje interactivo, constructivo, autorregulado y tecnológ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orar el medio tecnológico por su valor como instrumento cognitiv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fatizar la construcción del conoci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imular el desarrollo de habilidades del pensa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5480" y="1590840"/>
            <a:ext cx="201420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41C-BB01-4B70-BEB1-FFA6DF504D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960" y="1827360"/>
            <a:ext cx="551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nsibilizarse con la educación en valores relacionada con el uso de las tecnologí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Enfatizar la vertiente cooperativa del aprendizaje: alumnos, profes, pad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Desarrollar habilidades instrumentale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lternar modelos de enseñanza y aprendizaje variado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Utilizar un recurso tecnológico sólo si merece la pen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2200" y="3514680"/>
            <a:ext cx="201456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9BA-303A-47B4-9271-115A12F078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Alumnad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Profesorado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62A-60FB-47D0-87CE-CDB6241B3C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6600" y="170316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Construir aprendizaje del currículo usando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Mejorar habilidades del pensamiento adquiriendo estrategias inteligent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Desarrollar el sentido crític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dquirir una adecuada formación en valor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17EC-89EE-43D6-B80A-6DF90881A1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41:53Z</dcterms:created>
  <dc:creator> fpp</dc:creator>
  <dc:description/>
  <dc:language>en-US</dc:language>
  <cp:lastModifiedBy>fpp</cp:lastModifiedBy>
  <dcterms:modified xsi:type="dcterms:W3CDTF">2007-05-05T22:15:31Z</dcterms:modified>
  <cp:revision>95</cp:revision>
  <dc:subject/>
  <dc:title>Proyecto de TICs en un  Centro de Educación Prima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Proyecto de TICs en un</vt:lpwstr>
  </property>
  <property fmtid="{D5CDD505-2E9C-101B-9397-08002B2CF9AE}" pid="3" name="LastUsedName">
    <vt:lpwstr>Proyecto de TICs en un</vt:lpwstr>
  </property>
</Properties>
</file>