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media/image7.wmf" ContentType="image/x-wmf"/>
  <Override PartName="/ppt/media/image12.wmf" ContentType="image/x-wmf"/>
  <Override PartName="/ppt/media/image8.wmf" ContentType="image/x-wmf"/>
  <Override PartName="/ppt/media/image13.wmf" ContentType="image/x-wmf"/>
  <Override PartName="/ppt/media/image9.wmf" ContentType="image/x-wmf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642100" cy="99028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48FD4-C7E4-438B-815B-8D4428163D1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3A56D9-CE0F-4A0D-8733-8C355194C4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0429-9DB9-43F2-9D7D-8734B12539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2EC84-FBAD-4451-9982-117B8CF628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64F3C6-0242-4FD2-93D4-3575D1C0CD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45B08-2D06-46CD-A2B6-75A4F08635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258CF-F555-4F56-8F10-7BBF27BD98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B8D656-B773-497B-8927-EE71B97C21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499AC1-1281-4F6C-B448-7949CA4314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F10FDC-0466-4DEF-AA7A-EEEC5CB5D1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73D00-C326-44A9-BA1A-24C9B1190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8E100-3939-40EF-BDF0-4374BD681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6C0E9-F9E9-482D-8BAD-4C0279AE4D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6E1ADD-8FB2-4099-9CB1-BF8695B2D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275C63-418C-4B40-BC89-CD1773320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94A241-742C-47AA-BC51-85A7887048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C9B689-F385-4CB0-B47F-E695951EA2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17C8F-E3FD-4516-BCC9-461B0F37D4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6569C-3D24-470F-91C7-CDEF38577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B71211-AC4A-48CC-B0E7-3DC7667D1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26C1-78B8-4702-8361-965325D889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112CC-88DC-41EB-A2B0-E7A04B9D9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0EC5C-DE08-4F73-B358-17F457AB3C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E0F51-1D17-4611-B65D-8F4DE0CE56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3238560" y="0"/>
            <a:ext cx="11925360" cy="3809880"/>
            <a:chOff x="-3238560" y="0"/>
            <a:chExt cx="11925360" cy="3809880"/>
          </a:xfrm>
        </p:grpSpPr>
        <p:sp>
          <p:nvSpPr>
            <p:cNvPr id="1" name=""/>
            <p:cNvSpPr/>
            <p:nvPr/>
          </p:nvSpPr>
          <p:spPr>
            <a:xfrm>
              <a:off x="-3238560" y="685800"/>
              <a:ext cx="4114800" cy="31240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296" y="-26254"/>
                  </a:moveTo>
                  <a:arcTo wR="32000" hR="32000" stAng="-3307659" swAng="6615318"/>
                  <a:moveTo>
                    <a:pt x="18296" y="26254"/>
                  </a:moveTo>
                  <a:arcTo wR="32000" hR="32000" stAng="3307659" swAng="61"/>
                  <a:lnTo>
                    <a:pt x="18296" y="26255"/>
                  </a:lnTo>
                  <a:lnTo>
                    <a:pt x="18296" y="-26255"/>
                  </a:lnTo>
                  <a:lnTo>
                    <a:pt x="18296" y="-26254"/>
                  </a:lnTo>
                  <a:arcTo wR="32000" hR="32000" stAng="-3307720" swAng="6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2425680" y="0"/>
              <a:ext cx="3093840" cy="315432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077" y="-26405"/>
                  </a:moveTo>
                  <a:arcTo wR="32000" hR="32000" stAng="-3336253" swAng="6672506"/>
                  <a:moveTo>
                    <a:pt x="18077" y="26405"/>
                  </a:moveTo>
                  <a:arcTo wR="32000" hR="32000" stAng="3336253" swAng="61"/>
                  <a:lnTo>
                    <a:pt x="18077" y="26406"/>
                  </a:lnTo>
                  <a:lnTo>
                    <a:pt x="18077" y="-26406"/>
                  </a:lnTo>
                  <a:lnTo>
                    <a:pt x="18077" y="-26405"/>
                  </a:lnTo>
                  <a:arcTo wR="32000" hR="32000" stAng="-3336314" swAng="61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1371600" y="1523880"/>
              <a:ext cx="731520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2" marL="1143000" indent="-228600">
              <a:spcBef>
                <a:spcPts val="726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3" marL="1600200" indent="-228600">
              <a:spcBef>
                <a:spcPts val="72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4" marL="2057400" indent="-228600">
              <a:spcBef>
                <a:spcPts val="72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5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6" marL="2057400" indent="-228600">
              <a:spcBef>
                <a:spcPts val="72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66D107-DB90-435F-ACA4-5AFF3616A997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3222720" y="304920"/>
            <a:ext cx="11909520" cy="4724280"/>
            <a:chOff x="-3222720" y="304920"/>
            <a:chExt cx="11909520" cy="4724280"/>
          </a:xfrm>
        </p:grpSpPr>
        <p:sp>
          <p:nvSpPr>
            <p:cNvPr id="46" name=""/>
            <p:cNvSpPr/>
            <p:nvPr/>
          </p:nvSpPr>
          <p:spPr>
            <a:xfrm>
              <a:off x="1447920" y="2514600"/>
              <a:ext cx="7238880" cy="0"/>
            </a:xfrm>
            <a:prstGeom prst="line">
              <a:avLst/>
            </a:prstGeom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2514600" y="1371600"/>
              <a:ext cx="3657600" cy="365760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2083" y="-29631"/>
                  </a:moveTo>
                  <a:arcTo wR="32000" hR="32000" stAng="-4068917" swAng="8137834"/>
                  <a:moveTo>
                    <a:pt x="12083" y="29631"/>
                  </a:moveTo>
                  <a:arcTo wR="32000" hR="32000" stAng="4068917" swAng="41"/>
                  <a:lnTo>
                    <a:pt x="12083" y="29632"/>
                  </a:lnTo>
                  <a:lnTo>
                    <a:pt x="12083" y="-29632"/>
                  </a:lnTo>
                  <a:lnTo>
                    <a:pt x="12083" y="-29631"/>
                  </a:lnTo>
                  <a:arcTo wR="32000" hR="32000" stAng="-4068958" swAng="41"/>
                  <a:close/>
                </a:path>
              </a:pathLst>
            </a:custGeom>
            <a:solidFill>
              <a:srgbClr val="99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-3222720" y="304920"/>
              <a:ext cx="4038840" cy="4038480"/>
            </a:xfrm>
            <a:custGeom>
              <a:avLst/>
              <a:gdLst/>
              <a:ahLst/>
              <a:rect l="l" t="t" r="r" b="b"/>
              <a:pathLst>
                <a:path w="64000" h="64000">
                  <a:moveTo>
                    <a:pt x="18994" y="-25753"/>
                  </a:moveTo>
                  <a:arcTo wR="32000" hR="32000" stAng="-3215387" swAng="6430773"/>
                  <a:moveTo>
                    <a:pt x="18994" y="25753"/>
                  </a:moveTo>
                  <a:arcTo wR="32000" hR="32000" stAng="3215387" swAng="64"/>
                  <a:lnTo>
                    <a:pt x="18994" y="25754"/>
                  </a:lnTo>
                  <a:lnTo>
                    <a:pt x="18994" y="-25754"/>
                  </a:lnTo>
                  <a:lnTo>
                    <a:pt x="18994" y="-25754"/>
                  </a:lnTo>
                  <a:arcTo wR="32000" hR="32000" stAng="-3215450" swAng="64"/>
                  <a:close/>
                </a:path>
              </a:pathLst>
            </a:custGeom>
            <a:solidFill>
              <a:srgbClr val="3366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Verdan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451221-C6AA-4D37-8E1B-BCD82B37FAB3}" type="slidenum">
              <a:rPr b="0" lang="en-US" sz="1200" spc="-1" strike="noStrike">
                <a:solidFill>
                  <a:srgbClr val="ffffff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lick to edit the outline text format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lvl="1" marL="457200" indent="0"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cond Outline Level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2" marL="914400" algn="ctr">
              <a:spcBef>
                <a:spcPts val="550"/>
              </a:spcBef>
              <a:buClr>
                <a:srgbClr val="ffffcc"/>
              </a:buClr>
              <a:buSzPct val="65000"/>
              <a:buFont typeface="Wingdings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ffff"/>
                </a:solidFill>
                <a:latin typeface="Verdana"/>
              </a:rPr>
              <a:t>Third Outline Leve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lvl="3" marL="1371600" algn="ctr"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our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4" marL="1828800" algn="ctr">
              <a:spcBef>
                <a:spcPts val="476"/>
              </a:spcBef>
              <a:buClr>
                <a:srgbClr val="ffffcc"/>
              </a:buClr>
              <a:buSzPct val="60000"/>
              <a:buFont typeface="Wingdings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Fif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5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ix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6" marL="1828800">
              <a:spcBef>
                <a:spcPts val="476"/>
              </a:spcBef>
              <a:buClr>
                <a:srgbClr val="ffffff"/>
              </a:buClr>
              <a:buSzPct val="6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Seventh Outline Level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5.wmf"/><Relationship Id="rId3" Type="http://schemas.openxmlformats.org/officeDocument/2006/relationships/image" Target="../media/image5.wmf"/><Relationship Id="rId4" Type="http://schemas.openxmlformats.org/officeDocument/2006/relationships/image" Target="../media/image5.wmf"/><Relationship Id="rId5" Type="http://schemas.openxmlformats.org/officeDocument/2006/relationships/image" Target="../media/image5.wmf"/><Relationship Id="rId6" Type="http://schemas.openxmlformats.org/officeDocument/2006/relationships/image" Target="../media/image5.wmf"/><Relationship Id="rId7" Type="http://schemas.openxmlformats.org/officeDocument/2006/relationships/image" Target="../media/image5.wmf"/><Relationship Id="rId8" Type="http://schemas.openxmlformats.org/officeDocument/2006/relationships/image" Target="../media/image5.wmf"/><Relationship Id="rId9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442520" y="985320"/>
            <a:ext cx="7239240" cy="144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Proyecto TIC en un </a:t>
            </a:r>
            <a:br>
              <a:rPr sz="4000"/>
            </a:br>
            <a:r>
              <a:rPr b="1" lang="en-US" sz="4000" spc="-1" strike="noStrike">
                <a:solidFill>
                  <a:srgbClr val="ffffcc"/>
                </a:solidFill>
                <a:latin typeface="Arial"/>
              </a:rPr>
              <a:t>Centro Educativo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1450800" y="2841480"/>
            <a:ext cx="3540240" cy="31179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E817D8-4695-4E52-8BB8-C4D543879C51}" type="slidenum">
              <a:t>1</a:t>
            </a:fld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36600" y="173160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umentar el interés por aprender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vorecer el aprendizaje cooperativo y social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stimular creatividad e imaginación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75C8E-0E56-4A3C-A18B-F2C53F46DE24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Document"/>
          <p:cNvSpPr/>
          <p:nvPr/>
        </p:nvSpPr>
        <p:spPr>
          <a:xfrm>
            <a:off x="1190520" y="1666800"/>
            <a:ext cx="4057920" cy="501984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36600" y="1731960"/>
            <a:ext cx="4011840" cy="40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Enfatizar la vertiente comunicativa de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Potenciar la integración de alumnado con necesidades educativas especial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Familiarizarse y concienciarse del nuevo modelo de formación: autónomo y a distancia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A4E01-7C39-465E-91FE-49DEB70AEEB7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Unidades Didácticas que incorporen el uso de nuevas tecnologías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Adaptar o diseñar multimedias que favorezcan el aprendizaje constructivo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Experimentar modelos de enseñanza alternativos a la instrucción directa.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Verdana"/>
              </a:rPr>
              <a:t>Diseñar programas de apoyo al alumnado con necesidades educativas</a:t>
            </a: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spcAft>
                <a:spcPts val="150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CBDD8-ABFD-40B4-A3DD-2CB3D73CDABB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profesorado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995480" y="1827360"/>
            <a:ext cx="6688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esarrollar modelos de evaluación sobre la utilización de los medios tecnológic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Participar en iniciativas de formación presencial y a distancia sobre el uso de las NNT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spcAft>
                <a:spcPts val="1562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Reconocer el nuevo rol del profesor: diseñador y facilitador de entorn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spcAft>
                <a:spcPts val="1562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1CB10-1234-4F72-B560-AB7D4502125C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31" name=""/>
          <p:cNvGrpSpPr/>
          <p:nvPr/>
        </p:nvGrpSpPr>
        <p:grpSpPr>
          <a:xfrm>
            <a:off x="1006560" y="2200320"/>
            <a:ext cx="1674720" cy="1496880"/>
            <a:chOff x="1006560" y="2200320"/>
            <a:chExt cx="1674720" cy="1496880"/>
          </a:xfrm>
        </p:grpSpPr>
        <p:pic>
          <p:nvPicPr>
            <p:cNvPr id="132" name="" descr=""/>
            <p:cNvPicPr/>
            <p:nvPr/>
          </p:nvPicPr>
          <p:blipFill>
            <a:blip r:embed="rId1"/>
            <a:stretch/>
          </p:blipFill>
          <p:spPr>
            <a:xfrm>
              <a:off x="1015920" y="220032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3" name=""/>
            <p:cNvSpPr/>
            <p:nvPr/>
          </p:nvSpPr>
          <p:spPr>
            <a:xfrm>
              <a:off x="1404720" y="2486160"/>
              <a:ext cx="6987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U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006560" y="324648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Uso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3454560" y="3246480"/>
            <a:ext cx="2266920" cy="1695240"/>
            <a:chOff x="3454560" y="3246480"/>
            <a:chExt cx="2266920" cy="1695240"/>
          </a:xfrm>
        </p:grpSpPr>
        <p:sp>
          <p:nvSpPr>
            <p:cNvPr id="136" name="computr3"/>
            <p:cNvSpPr/>
            <p:nvPr/>
          </p:nvSpPr>
          <p:spPr>
            <a:xfrm>
              <a:off x="3454560" y="3246480"/>
              <a:ext cx="2266920" cy="1695240"/>
            </a:xfrm>
            <a:prstGeom prst="pie">
              <a:avLst/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4193640" y="3362400"/>
              <a:ext cx="10188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333300"/>
                  </a:solidFill>
                  <a:latin typeface="Verdana"/>
                </a:rPr>
                <a:t>Proyecto</a:t>
              </a:r>
              <a:endParaRPr b="0" lang="en-US" sz="16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4369680" y="3673440"/>
              <a:ext cx="669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TIC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9" name=""/>
          <p:cNvGrpSpPr/>
          <p:nvPr/>
        </p:nvGrpSpPr>
        <p:grpSpPr>
          <a:xfrm>
            <a:off x="2747880" y="1600200"/>
            <a:ext cx="1674720" cy="1496880"/>
            <a:chOff x="2747880" y="1600200"/>
            <a:chExt cx="1674720" cy="1496880"/>
          </a:xfrm>
        </p:grpSpPr>
        <p:pic>
          <p:nvPicPr>
            <p:cNvPr id="140" name="" descr=""/>
            <p:cNvPicPr/>
            <p:nvPr/>
          </p:nvPicPr>
          <p:blipFill>
            <a:blip r:embed="rId2"/>
            <a:stretch/>
          </p:blipFill>
          <p:spPr>
            <a:xfrm>
              <a:off x="2757240" y="16002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1" name=""/>
            <p:cNvSpPr/>
            <p:nvPr/>
          </p:nvSpPr>
          <p:spPr>
            <a:xfrm>
              <a:off x="3162960" y="1886040"/>
              <a:ext cx="66672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V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2747880" y="26463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Valoración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3" name=""/>
          <p:cNvGrpSpPr/>
          <p:nvPr/>
        </p:nvGrpSpPr>
        <p:grpSpPr>
          <a:xfrm>
            <a:off x="5184720" y="1619280"/>
            <a:ext cx="1674720" cy="1496880"/>
            <a:chOff x="5184720" y="1619280"/>
            <a:chExt cx="1674720" cy="1496880"/>
          </a:xfrm>
        </p:grpSpPr>
        <p:pic>
          <p:nvPicPr>
            <p:cNvPr id="144" name="" descr=""/>
            <p:cNvPicPr/>
            <p:nvPr/>
          </p:nvPicPr>
          <p:blipFill>
            <a:blip r:embed="rId3"/>
            <a:stretch/>
          </p:blipFill>
          <p:spPr>
            <a:xfrm>
              <a:off x="5194080" y="161928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"/>
            <p:cNvSpPr/>
            <p:nvPr/>
          </p:nvSpPr>
          <p:spPr>
            <a:xfrm>
              <a:off x="5625360" y="1905120"/>
              <a:ext cx="6166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AD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5184720" y="266544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Alfabetiz.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333300"/>
                  </a:solidFill>
                  <a:latin typeface="Trebuchet MS"/>
                </a:rPr>
                <a:t>Digital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47" name=""/>
          <p:cNvGrpSpPr/>
          <p:nvPr/>
        </p:nvGrpSpPr>
        <p:grpSpPr>
          <a:xfrm>
            <a:off x="6840360" y="2496960"/>
            <a:ext cx="1674720" cy="1496880"/>
            <a:chOff x="6840360" y="2496960"/>
            <a:chExt cx="1674720" cy="1496880"/>
          </a:xfrm>
        </p:grpSpPr>
        <p:pic>
          <p:nvPicPr>
            <p:cNvPr id="148" name="" descr=""/>
            <p:cNvPicPr/>
            <p:nvPr/>
          </p:nvPicPr>
          <p:blipFill>
            <a:blip r:embed="rId4"/>
            <a:stretch/>
          </p:blipFill>
          <p:spPr>
            <a:xfrm>
              <a:off x="6849720" y="2496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9" name=""/>
            <p:cNvSpPr/>
            <p:nvPr/>
          </p:nvSpPr>
          <p:spPr>
            <a:xfrm>
              <a:off x="7287480" y="2782800"/>
              <a:ext cx="60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V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6840360" y="3543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ten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vers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1" name=""/>
          <p:cNvGrpSpPr/>
          <p:nvPr/>
        </p:nvGrpSpPr>
        <p:grpSpPr>
          <a:xfrm>
            <a:off x="6840360" y="4370400"/>
            <a:ext cx="1674720" cy="1496880"/>
            <a:chOff x="6840360" y="4370400"/>
            <a:chExt cx="1674720" cy="1496880"/>
          </a:xfrm>
        </p:grpSpPr>
        <p:pic>
          <p:nvPicPr>
            <p:cNvPr id="152" name="" descr=""/>
            <p:cNvPicPr/>
            <p:nvPr/>
          </p:nvPicPr>
          <p:blipFill>
            <a:blip r:embed="rId5"/>
            <a:stretch/>
          </p:blipFill>
          <p:spPr>
            <a:xfrm>
              <a:off x="6849720" y="437040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3" name=""/>
            <p:cNvSpPr/>
            <p:nvPr/>
          </p:nvSpPr>
          <p:spPr>
            <a:xfrm>
              <a:off x="7312680" y="4656240"/>
              <a:ext cx="55548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B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6840360" y="541656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Escola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5" name=""/>
          <p:cNvGrpSpPr/>
          <p:nvPr/>
        </p:nvGrpSpPr>
        <p:grpSpPr>
          <a:xfrm>
            <a:off x="4970520" y="5119560"/>
            <a:ext cx="1674720" cy="1496880"/>
            <a:chOff x="4970520" y="5119560"/>
            <a:chExt cx="1674720" cy="1496880"/>
          </a:xfrm>
        </p:grpSpPr>
        <p:pic>
          <p:nvPicPr>
            <p:cNvPr id="156" name="" descr=""/>
            <p:cNvPicPr/>
            <p:nvPr/>
          </p:nvPicPr>
          <p:blipFill>
            <a:blip r:embed="rId6"/>
            <a:stretch/>
          </p:blipFill>
          <p:spPr>
            <a:xfrm>
              <a:off x="4979880" y="5119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5414400" y="5405400"/>
              <a:ext cx="61200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G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4970520" y="6165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Gest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Admin. y Tutor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2589120" y="5281560"/>
            <a:ext cx="1674720" cy="1496880"/>
            <a:chOff x="2589120" y="5281560"/>
            <a:chExt cx="1674720" cy="1496880"/>
          </a:xfrm>
        </p:grpSpPr>
        <p:pic>
          <p:nvPicPr>
            <p:cNvPr id="160" name="" descr=""/>
            <p:cNvPicPr/>
            <p:nvPr/>
          </p:nvPicPr>
          <p:blipFill>
            <a:blip r:embed="rId7"/>
            <a:stretch/>
          </p:blipFill>
          <p:spPr>
            <a:xfrm>
              <a:off x="2598480" y="52815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1" name=""/>
            <p:cNvSpPr/>
            <p:nvPr/>
          </p:nvSpPr>
          <p:spPr>
            <a:xfrm>
              <a:off x="3069720" y="5567400"/>
              <a:ext cx="54036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FP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589120" y="63277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Formació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Profesorad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63" name=""/>
          <p:cNvGrpSpPr/>
          <p:nvPr/>
        </p:nvGrpSpPr>
        <p:grpSpPr>
          <a:xfrm>
            <a:off x="838080" y="4071960"/>
            <a:ext cx="1674720" cy="1496880"/>
            <a:chOff x="838080" y="4071960"/>
            <a:chExt cx="1674720" cy="1496880"/>
          </a:xfrm>
        </p:grpSpPr>
        <p:pic>
          <p:nvPicPr>
            <p:cNvPr id="164" name="" descr=""/>
            <p:cNvPicPr/>
            <p:nvPr/>
          </p:nvPicPr>
          <p:blipFill>
            <a:blip r:embed="rId8"/>
            <a:stretch/>
          </p:blipFill>
          <p:spPr>
            <a:xfrm>
              <a:off x="847440" y="4071960"/>
              <a:ext cx="1497240" cy="1496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5" name=""/>
            <p:cNvSpPr/>
            <p:nvPr/>
          </p:nvSpPr>
          <p:spPr>
            <a:xfrm>
              <a:off x="1240920" y="4357800"/>
              <a:ext cx="694440" cy="386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333300"/>
                  </a:solidFill>
                  <a:latin typeface="Verdana"/>
                </a:rPr>
                <a:t>D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838080" y="5118120"/>
              <a:ext cx="1674720" cy="43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Diseñ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8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333300"/>
                  </a:solidFill>
                  <a:latin typeface="Trebuchet MS"/>
                </a:rPr>
                <a:t>Materia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46EA7-CC81-4A0C-8B7F-8F6FC4D47F68}" type="slidenum">
              <a:t>14</a:t>
            </a:fld>
          </a:p>
        </p:txBody>
      </p:sp>
    </p:spTree>
  </p:cSld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5" fill="hold">
                      <p:stCondLst>
                        <p:cond delay="indefinite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1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Tecl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 Windows: Programas y Ventan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Word: edición básica de un documento: título, imagen y tex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Internet: websites conocid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69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avegación por Mi Primera Encar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vío y Recepción de Email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8F8F2-2C09-4B9E-BFB3-DB13BC61761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9" fill="hold">
                      <p:stCondLst>
                        <p:cond delay="indefinite"/>
                      </p:stCondLst>
                      <p:childTnLst>
                        <p:par>
                          <p:cTn id="220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3" fill="hold">
                      <p:stCondLst>
                        <p:cond delay="indefinite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Alfabetización Digital: 2º Cicl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Teclado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ntorno Windows: Archivos y Dis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Word: edición de un documento: formato de imagen y text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Navegación por Internet:herramientas escolares y buscad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73" name="PlaceHolder 3"/>
          <p:cNvSpPr>
            <a:spLocks noGrp="1"/>
          </p:cNvSpPr>
          <p:nvPr>
            <p:ph/>
          </p:nvPr>
        </p:nvSpPr>
        <p:spPr>
          <a:xfrm>
            <a:off x="5102280" y="1827360"/>
            <a:ext cx="35812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Herramientas escolares de Encart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Dibujar con el Paint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cámara digit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La grabadora de sonid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mails con adjunt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scaneado de imágenes propi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058160" y="0"/>
            <a:ext cx="1825560" cy="1905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A487A-747A-4A11-A4A0-3859CCCBAD46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tras Líneas de Actu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Escola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Administrativa y Tutorial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Valoración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Diseño de Material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A6DE0-8E44-429C-A10E-56666470FFB5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Biblioteca Escolar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Biblioteca -&gt; Mediate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catálogo: Abies 2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Consulta web del catálogo: Bonsai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Formación de usuari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oyecto interdisciplinar por hit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7f7f7f"/>
                </a:solidFill>
                <a:latin typeface="Verdana"/>
              </a:rPr>
              <a:t>	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1"/>
          <a:stretch/>
        </p:blipFill>
        <p:spPr>
          <a:xfrm>
            <a:off x="28440" y="5210280"/>
            <a:ext cx="2033640" cy="1616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27A18-698B-4BC5-B8E3-3B040F6BAB31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7" fill="hold">
                      <p:stCondLst>
                        <p:cond delay="indefinite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Gestión Administrativa y Tutorial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lantillas documentación oficial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scolar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económic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Noticias web para familia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Gestión tutorial: listas y evaluacione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7BAD7-324F-4293-A11D-F9414A755AC1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fill="hold">
                      <p:stCondLst>
                        <p:cond delay="indefinite"/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200"/>
            </a:b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Índice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Contex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ínea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z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La Web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Formación del Profesora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yect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erspectivas del futu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7BD0F-EB1D-452F-8E6C-C177D5104720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Valoración de Material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quip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34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Criterios de valoración </a:t>
            </a:r>
            <a:r>
              <a:rPr b="0" lang="es-ES" sz="1400" spc="-1" strike="noStrike">
                <a:solidFill>
                  <a:srgbClr val="ffffff"/>
                </a:solidFill>
                <a:latin typeface="Verdana"/>
              </a:rPr>
              <a:t>(1) Profesor Marc Peré</a:t>
            </a:r>
            <a:endParaRPr b="0" lang="en-US" sz="14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técnicos: interacción, fiabilidad, navegación, etc. 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estéticos: entorno, cal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de utilidad didáctica: estrategias, evaluación, continuidad …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76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spectos pedagógicos: refuerzos, motivación, buscado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Elaboración de una guía de explotación didáctica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Presentación del material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Revisión del Plan Anual de Uso de Material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8DA11D-5EAE-4C30-B589-CDB6135B9B87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fill="hold">
                      <p:stCondLst>
                        <p:cond delay="indefinite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fill="hold">
                      <p:stCondLst>
                        <p:cond delay="indefinite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7" fill="hold">
                      <p:stCondLst>
                        <p:cond delay="indefinite"/>
                      </p:stCondLst>
                      <p:childTnLst>
                        <p:par>
                          <p:cTn id="368" fill="hold">
                            <p:stCondLst>
                              <p:cond delay="0"/>
                            </p:stCondLst>
                            <p:childTnLst>
                              <p:par>
                                <p:cTn id="36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Diseño de Materiale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1369800" y="2548080"/>
            <a:ext cx="73134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Necesidad del diseño: escasez de iniciativas editorial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Entornos de publicación: Aula - Red local – Web del centro – Aula virtual - Otr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Herramientas: Word – FrontPage - PowerPoint – Autor NEA - Hot Potatoes – JClic – Flash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6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1"/>
          <a:stretch/>
        </p:blipFill>
        <p:spPr>
          <a:xfrm>
            <a:off x="6643800" y="530280"/>
            <a:ext cx="2039760" cy="2017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38417-D863-4513-8C82-F78E967AFC9A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fill="hold">
                      <p:stCondLst>
                        <p:cond delay="indefinite"/>
                      </p:stCondLst>
                      <p:childTnLst>
                        <p:par>
                          <p:cTn id="378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3" dur="500"/>
                                        <p:tgtEl>
                                          <p:spTgt spid="1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1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1" fill="hold">
                      <p:stCondLst>
                        <p:cond delay="indefinite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500"/>
                                        <p:tgtEl>
                                          <p:spTgt spid="1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Organización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Horarios y espac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rganigrama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l Coordinador TIC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0CD74-92A8-4068-A82F-18F1049291C7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Horarios y espac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1590840" y="1827360"/>
            <a:ext cx="70927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M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Uso de Materiales II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quincenal. Cada grupo asiste con profesor especialista (Inglés-Música-Llíngua-Plástica) (20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 Alfabetización Digital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un profesor responsable de Ciclo (12 horas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BE Biblioteca Escolar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: 1 sesión semanal. Cada grupo asiste con su tutor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D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Atención a la Diversidad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(apoyos): resto horario lectivo disponible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700" spc="-1" strike="noStrike">
                <a:solidFill>
                  <a:srgbClr val="ffffff"/>
                </a:solidFill>
                <a:latin typeface="Verdana"/>
              </a:rPr>
              <a:t>FP Formación profesorado. </a:t>
            </a:r>
            <a:r>
              <a:rPr b="0" lang="es-ES" sz="1700" spc="-1" strike="noStrike">
                <a:solidFill>
                  <a:srgbClr val="ffffff"/>
                </a:solidFill>
                <a:latin typeface="Verdana"/>
              </a:rPr>
              <a:t>Horario de dedicación exclusiva (2 horas semanales: individual y grupo).</a:t>
            </a: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25"/>
              </a:spcBef>
              <a:spcAft>
                <a:spcPts val="63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1"/>
          <a:stretch/>
        </p:blipFill>
        <p:spPr>
          <a:xfrm>
            <a:off x="136440" y="4495680"/>
            <a:ext cx="1594080" cy="21672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663E5-656C-4ACC-870A-7DEFCC46FA98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8" dur="indefinite" restart="never" nodeType="tmRoot">
          <p:childTnLst>
            <p:seq>
              <p:cTn id="399" dur="indefinite" nodeType="mainSeq">
                <p:childTnLst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4" fill="hold">
                      <p:stCondLst>
                        <p:cond delay="indefinite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2" fill="hold">
                      <p:stCondLst>
                        <p:cond delay="indefinite"/>
                      </p:stCondLst>
                      <p:childTnLst>
                        <p:par>
                          <p:cTn id="413" fill="hold">
                            <p:stCondLst>
                              <p:cond delay="0"/>
                            </p:stCondLst>
                            <p:childTnLst>
                              <p:par>
                                <p:cTn id="4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0" fill="hold">
                      <p:stCondLst>
                        <p:cond delay="indefinite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Organización: Organigrama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grpSp>
        <p:nvGrpSpPr>
          <p:cNvPr id="193" name=""/>
          <p:cNvGrpSpPr/>
          <p:nvPr/>
        </p:nvGrpSpPr>
        <p:grpSpPr>
          <a:xfrm>
            <a:off x="5410080" y="2540160"/>
            <a:ext cx="3601440" cy="1402560"/>
            <a:chOff x="5410080" y="2540160"/>
            <a:chExt cx="3601440" cy="1402560"/>
          </a:xfrm>
        </p:grpSpPr>
        <p:sp>
          <p:nvSpPr>
            <p:cNvPr id="194" name=""/>
            <p:cNvSpPr/>
            <p:nvPr/>
          </p:nvSpPr>
          <p:spPr>
            <a:xfrm>
              <a:off x="5410080" y="2540160"/>
              <a:ext cx="1308240" cy="12268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6752160" y="3422520"/>
              <a:ext cx="22593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V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Profesores de Apoy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, Logopedia y PT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6010200" y="1724040"/>
            <a:ext cx="2193840" cy="1225440"/>
            <a:chOff x="6010200" y="1724040"/>
            <a:chExt cx="2193840" cy="1225440"/>
          </a:xfrm>
        </p:grpSpPr>
        <p:sp>
          <p:nvSpPr>
            <p:cNvPr id="197" name=""/>
            <p:cNvSpPr/>
            <p:nvPr/>
          </p:nvSpPr>
          <p:spPr>
            <a:xfrm>
              <a:off x="6461280" y="2016000"/>
              <a:ext cx="1168200" cy="933480"/>
            </a:xfrm>
            <a:prstGeom prst="pie">
              <a:avLst/>
            </a:prstGeom>
            <a:solidFill>
              <a:srgbClr val="ff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010200" y="1724040"/>
              <a:ext cx="2193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GA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Tutores y Secretarí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1016640" y="2062080"/>
            <a:ext cx="1717200" cy="1704960"/>
            <a:chOff x="1016640" y="2062080"/>
            <a:chExt cx="1717200" cy="1704960"/>
          </a:xfrm>
        </p:grpSpPr>
        <p:sp>
          <p:nvSpPr>
            <p:cNvPr id="200" name=""/>
            <p:cNvSpPr/>
            <p:nvPr/>
          </p:nvSpPr>
          <p:spPr>
            <a:xfrm>
              <a:off x="1380960" y="2579760"/>
              <a:ext cx="1352880" cy="1187280"/>
            </a:xfrm>
            <a:prstGeom prst="pi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1016640" y="2062080"/>
              <a:ext cx="16498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BE: 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Responsabl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de la Biblioteca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783000" y="3173400"/>
            <a:ext cx="2939760" cy="1347840"/>
            <a:chOff x="783000" y="3173400"/>
            <a:chExt cx="2939760" cy="1347840"/>
          </a:xfrm>
        </p:grpSpPr>
        <p:sp>
          <p:nvSpPr>
            <p:cNvPr id="203" name=""/>
            <p:cNvSpPr/>
            <p:nvPr/>
          </p:nvSpPr>
          <p:spPr>
            <a:xfrm>
              <a:off x="2185920" y="3173400"/>
              <a:ext cx="1536840" cy="1347840"/>
            </a:xfrm>
            <a:prstGeom prst="pie">
              <a:avLst/>
            </a:prstGeom>
            <a:solidFill>
              <a:srgbClr val="6699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83000" y="3848040"/>
              <a:ext cx="149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D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Grupos de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5" name=""/>
          <p:cNvGrpSpPr/>
          <p:nvPr/>
        </p:nvGrpSpPr>
        <p:grpSpPr>
          <a:xfrm>
            <a:off x="1157040" y="4297320"/>
            <a:ext cx="2229120" cy="2050200"/>
            <a:chOff x="1157040" y="4297320"/>
            <a:chExt cx="2229120" cy="2050200"/>
          </a:xfrm>
        </p:grpSpPr>
        <p:sp>
          <p:nvSpPr>
            <p:cNvPr id="206" name=""/>
            <p:cNvSpPr/>
            <p:nvPr/>
          </p:nvSpPr>
          <p:spPr>
            <a:xfrm>
              <a:off x="1228680" y="4297320"/>
              <a:ext cx="1893960" cy="169236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157040" y="6040440"/>
              <a:ext cx="2229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FP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odos los profesore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012480" y="2070000"/>
            <a:ext cx="2462040" cy="1758960"/>
            <a:chOff x="3012480" y="2070000"/>
            <a:chExt cx="2462040" cy="1758960"/>
          </a:xfrm>
        </p:grpSpPr>
        <p:sp>
          <p:nvSpPr>
            <p:cNvPr id="209" name=""/>
            <p:cNvSpPr/>
            <p:nvPr/>
          </p:nvSpPr>
          <p:spPr>
            <a:xfrm>
              <a:off x="3436920" y="2481120"/>
              <a:ext cx="1373040" cy="1347840"/>
            </a:xfrm>
            <a:prstGeom prst="pie">
              <a:avLst/>
            </a:prstGeom>
            <a:solidFill>
              <a:srgbClr val="33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012480" y="2070000"/>
              <a:ext cx="2462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V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Coordinador Ciclo y un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profesor por especialidad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1" name=""/>
          <p:cNvGrpSpPr/>
          <p:nvPr/>
        </p:nvGrpSpPr>
        <p:grpSpPr>
          <a:xfrm>
            <a:off x="4191120" y="3259080"/>
            <a:ext cx="4073760" cy="1347840"/>
            <a:chOff x="4191120" y="3259080"/>
            <a:chExt cx="4073760" cy="1347840"/>
          </a:xfrm>
        </p:grpSpPr>
        <p:sp>
          <p:nvSpPr>
            <p:cNvPr id="212" name=""/>
            <p:cNvSpPr/>
            <p:nvPr/>
          </p:nvSpPr>
          <p:spPr>
            <a:xfrm>
              <a:off x="4191120" y="3259080"/>
              <a:ext cx="1536480" cy="1347840"/>
            </a:xfrm>
            <a:prstGeom prst="pie">
              <a:avLst/>
            </a:prstGeom>
            <a:solidFill>
              <a:srgbClr val="cc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5857560" y="3968640"/>
              <a:ext cx="2407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UM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Tutores, Especialistas 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y Apoyos a Grupo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14" name=""/>
          <p:cNvGrpSpPr/>
          <p:nvPr/>
        </p:nvGrpSpPr>
        <p:grpSpPr>
          <a:xfrm>
            <a:off x="4505400" y="4297320"/>
            <a:ext cx="2553120" cy="1999440"/>
            <a:chOff x="4505400" y="4297320"/>
            <a:chExt cx="2553120" cy="1999440"/>
          </a:xfrm>
        </p:grpSpPr>
        <p:sp>
          <p:nvSpPr>
            <p:cNvPr id="215" name=""/>
            <p:cNvSpPr/>
            <p:nvPr/>
          </p:nvSpPr>
          <p:spPr>
            <a:xfrm>
              <a:off x="4505400" y="4297320"/>
              <a:ext cx="1666800" cy="1584360"/>
            </a:xfrm>
            <a:prstGeom prst="pie">
              <a:avLst/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42640" y="5989680"/>
              <a:ext cx="231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ffffff"/>
                  </a:solidFill>
                  <a:latin typeface="Verdana"/>
                </a:rPr>
                <a:t>AD</a:t>
              </a:r>
              <a:r>
                <a:rPr b="0" lang="en-US" sz="1400" spc="-1" strike="noStrike">
                  <a:solidFill>
                    <a:srgbClr val="ffffff"/>
                  </a:solidFill>
                  <a:latin typeface="Verdana"/>
                </a:rPr>
                <a:t>: Un profesor por Ciclo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80C20-F90A-4DF4-B503-C0BD4C331774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4" dur="indefinite" restart="never" nodeType="tmRoot">
          <p:childTnLst>
            <p:seq>
              <p:cTn id="425" dur="indefinite" nodeType="mainSeq">
                <p:childTnLst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0" fill="hold">
                      <p:stCondLst>
                        <p:cond delay="indefinite"/>
                      </p:stCondLst>
                      <p:childTnLst>
                        <p:par>
                          <p:cTn id="431" fill="hold">
                            <p:stCondLst>
                              <p:cond delay="0"/>
                            </p:stCondLst>
                            <p:childTnLst>
                              <p:par>
                                <p:cTn id="4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4" fill="hold">
                      <p:stCondLst>
                        <p:cond delay="indefinite"/>
                      </p:stCondLst>
                      <p:childTnLst>
                        <p:par>
                          <p:cTn id="435" fill="hold">
                            <p:stCondLst>
                              <p:cond delay="0"/>
                            </p:stCondLst>
                            <p:childTnLst>
                              <p:par>
                                <p:cTn id="4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2" fill="hold">
                      <p:stCondLst>
                        <p:cond delay="indefinite"/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l Coordinador TIC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5798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Sus funciones más destacadas: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Apoyar al profesorado en la integración de las TICs en la docencia diaria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Organizar y gestionar los recursos asegurando su correcto funcionamient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laborar en la implantación de los servicios de la Intrane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Dinamizar los proyectos del centro relacionados con NNTT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Gestionar el presupuesto específico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Verdana"/>
              </a:rPr>
              <a:t>Coordinar la comunicación del centro con las instituciones en temas TIC.</a:t>
            </a: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326"/>
              </a:spcBef>
              <a:spcAft>
                <a:spcPts val="81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19" name="" descr=""/>
          <p:cNvPicPr/>
          <p:nvPr/>
        </p:nvPicPr>
        <p:blipFill>
          <a:blip r:embed="rId1"/>
          <a:stretch/>
        </p:blipFill>
        <p:spPr>
          <a:xfrm>
            <a:off x="5018040" y="2141640"/>
            <a:ext cx="3665520" cy="2838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481973-A985-437D-B793-5B056593BC46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8" dur="indefinite" restart="never" nodeType="tmRoot">
          <p:childTnLst>
            <p:seq>
              <p:cTn id="459" dur="indefinite" nodeType="mainSeq">
                <p:childTnLst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4" fill="hold">
                      <p:stCondLst>
                        <p:cond delay="indefinite"/>
                      </p:stCondLst>
                      <p:childTnLst>
                        <p:par>
                          <p:cTn id="465" fill="hold">
                            <p:stCondLst>
                              <p:cond delay="0"/>
                            </p:stCondLst>
                            <p:childTnLst>
                              <p:par>
                                <p:cTn id="4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8" fill="hold">
                      <p:stCondLst>
                        <p:cond delay="indefinite"/>
                      </p:stCondLst>
                      <p:childTnLst>
                        <p:par>
                          <p:cTn id="469" fill="hold">
                            <p:stCondLst>
                              <p:cond delay="0"/>
                            </p:stCondLst>
                            <p:childTnLst>
                              <p:par>
                                <p:cTn id="4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2" fill="hold">
                      <p:stCondLst>
                        <p:cond delay="indefinite"/>
                      </p:stCondLst>
                      <p:childTnLst>
                        <p:par>
                          <p:cTn id="473" fill="hold">
                            <p:stCondLst>
                              <p:cond delay="0"/>
                            </p:stCondLst>
                            <p:childTnLst>
                              <p:par>
                                <p:cTn id="4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6" fill="hold">
                      <p:stCondLst>
                        <p:cond delay="indefinite"/>
                      </p:stCondLst>
                      <p:childTnLst>
                        <p:par>
                          <p:cTn id="477" fill="hold">
                            <p:stCondLst>
                              <p:cond delay="0"/>
                            </p:stCondLst>
                            <p:childTnLst>
                              <p:par>
                                <p:cTn id="4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fill="hold">
                      <p:stCondLst>
                        <p:cond delay="indefinite"/>
                      </p:stCondLst>
                      <p:childTnLst>
                        <p:par>
                          <p:cTn id="485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La Web del Centr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Situacione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incipios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75D65-F400-47ED-BDAB-FF70A8E4F579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ffffcc"/>
                </a:solidFill>
                <a:latin typeface="Arial"/>
              </a:rPr>
              <a:t>La web del centro I: Situacion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Recurso importante en el proyecto TIC del centr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retende los mismos objetivos que el plan TIC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Debe superar el enfoque inicial de “escaparate”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Portal de recursos de continua referencia del alumnado: de lo conocido a lo desconocid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A7B06-D143-49F8-BF0C-C6C8E8D6E09D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La web del centro II: Principi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Usabil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entorno intuitivo, amigable y adaptado a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ctividad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participación del alumnad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Enfoque educativo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omentar un uso más racional de los medios tecnológico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Infor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comunicar los detalles del proyecto educativo al resto de la comunidad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Portal de recursos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integrar múltiples recursos para convertirlo en sitio de referencia permanente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100" spc="-1" strike="noStrike">
                <a:solidFill>
                  <a:srgbClr val="ffffff"/>
                </a:solidFill>
                <a:latin typeface="Verdana"/>
              </a:rPr>
              <a:t>Animación</a:t>
            </a:r>
            <a:r>
              <a:rPr b="0" lang="es-ES" sz="2100" spc="-1" strike="noStrike">
                <a:solidFill>
                  <a:srgbClr val="ffffff"/>
                </a:solidFill>
                <a:latin typeface="Verdana"/>
              </a:rPr>
              <a:t>: facilitador de experiencias didácticas de innovación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1"/>
          <a:stretch/>
        </p:blipFill>
        <p:spPr>
          <a:xfrm>
            <a:off x="7640640" y="38160"/>
            <a:ext cx="1455840" cy="144936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AB1BE-EAAD-4ACA-94BA-DABDE5F343DE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6" dur="indefinite" restart="never" nodeType="tmRoot">
          <p:childTnLst>
            <p:seq>
              <p:cTn id="507" dur="indefinite" nodeType="mainSeq">
                <p:childTnLst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fill="hold">
                      <p:stCondLst>
                        <p:cond delay="indefinite"/>
                      </p:stCondLst>
                      <p:childTnLst>
                        <p:par>
                          <p:cTn id="513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0" fill="hold">
                      <p:stCondLst>
                        <p:cond delay="indefinite"/>
                      </p:stCondLst>
                      <p:childTnLst>
                        <p:par>
                          <p:cTn id="521" fill="hold">
                            <p:stCondLst>
                              <p:cond delay="0"/>
                            </p:stCondLst>
                            <p:childTnLst>
                              <p:par>
                                <p:cTn id="52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Formación del profesorado: Modalidades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400120" y="1827360"/>
            <a:ext cx="6283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actor clave de la integración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Seminario de formación en centr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Bajo la dirección del coordinador y con el apoyo del Centro de Profesore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Sesión quincenal de 2 horas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524"/>
              </a:spcBef>
              <a:buClr>
                <a:srgbClr val="99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ffffff"/>
                </a:solidFill>
                <a:latin typeface="Verdana"/>
              </a:rPr>
              <a:t>Alterna formación impartida por el coordinador con trabajo individual, de pequeño y de gran grupo.</a:t>
            </a:r>
            <a:endParaRPr b="0" lang="en-US" sz="21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presencial: cursos del Centro de Profesore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ffffff"/>
                </a:solidFill>
                <a:latin typeface="Verdana"/>
              </a:rPr>
              <a:t>Formación a distancia: Consejería y CNIC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85680" y="3591000"/>
            <a:ext cx="2209680" cy="30859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9E297-0552-4142-B837-089BA43D55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indefinite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6" fill="hold">
                      <p:stCondLst>
                        <p:cond delay="indefinite"/>
                      </p:stCondLst>
                      <p:childTnLst>
                        <p:par>
                          <p:cTn id="547" fill="hold">
                            <p:stCondLst>
                              <p:cond delay="0"/>
                            </p:stCondLst>
                            <p:childTnLst>
                              <p:par>
                                <p:cTn id="5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0" fill="hold">
                      <p:stCondLst>
                        <p:cond delay="indefinite"/>
                      </p:stCondLst>
                      <p:childTnLst>
                        <p:par>
                          <p:cTn id="551" fill="hold">
                            <p:stCondLst>
                              <p:cond delay="0"/>
                            </p:stCondLst>
                            <p:childTnLst>
                              <p:par>
                                <p:cTn id="5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tuación actual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Principios de act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Contexto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0AFE6C-FE59-4A62-AC7C-FB2D98CEFAD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cc"/>
                </a:solidFill>
                <a:latin typeface="Arial"/>
              </a:rPr>
              <a:t>Evaluación del proyect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alumn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fesor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Evaluación del proces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23B8A1-5407-4A30-9FB3-0C5D68520A47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alumn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cilita la creatividad y la imagin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favorece la comunicación del alumnado con su entorno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sibilita la integración social de alumnos con ne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potencia el uso de nuevos entornos de aprendizaje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A94BC-626A-47FE-B279-103232FC0221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2" dur="indefinite" restart="never" nodeType="tmRoot">
          <p:childTnLst>
            <p:seq>
              <p:cTn id="563" dur="indefinite" nodeType="mainSeq">
                <p:childTnLst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8" fill="hold">
                      <p:stCondLst>
                        <p:cond delay="indefinite"/>
                      </p:stCondLst>
                      <p:childTnLst>
                        <p:par>
                          <p:cTn id="569" fill="hold">
                            <p:stCondLst>
                              <p:cond delay="0"/>
                            </p:stCondLst>
                            <p:childTnLst>
                              <p:par>
                                <p:cTn id="57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2" fill="hold">
                      <p:stCondLst>
                        <p:cond delay="indefinite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Evaluación del alumno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1369800" y="1827000"/>
            <a:ext cx="7313400" cy="36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integración TIC supone construcción del conocimient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mejoran las habilidades de pensamiento crític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adquieren valores relacionados con el uso de las TI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estimula el interés por aprender en alumnos con nee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fomenta el trabajo cooperativ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7209000" y="5419800"/>
            <a:ext cx="1352520" cy="13190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9EB3-DB85-4127-BFE8-88292B1D96ED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0" dur="indefinite" restart="never" nodeType="tmRoot">
          <p:childTnLst>
            <p:seq>
              <p:cTn id="581" dur="indefinite" nodeType="mainSeq">
                <p:childTnLst>
                  <p:par>
                    <p:cTn id="582" fill="hold">
                      <p:stCondLst>
                        <p:cond delay="indefinite"/>
                      </p:stCondLst>
                      <p:childTnLst>
                        <p:par>
                          <p:cTn id="583" fill="hold">
                            <p:stCondLst>
                              <p:cond delay="0"/>
                            </p:stCondLst>
                            <p:childTnLst>
                              <p:par>
                                <p:cTn id="58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6" fill="hold">
                      <p:stCondLst>
                        <p:cond delay="indefinite"/>
                      </p:stCondLst>
                      <p:childTnLst>
                        <p:par>
                          <p:cTn id="587" fill="hold">
                            <p:stCondLst>
                              <p:cond delay="0"/>
                            </p:stCondLst>
                            <p:childTnLst>
                              <p:par>
                                <p:cTn id="58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4" fill="hold">
                      <p:stCondLst>
                        <p:cond delay="indefinite"/>
                      </p:stCondLst>
                      <p:childTnLst>
                        <p:par>
                          <p:cTn id="595" fill="hold">
                            <p:stCondLst>
                              <p:cond delay="0"/>
                            </p:stCondLst>
                            <p:childTnLst>
                              <p:par>
                                <p:cTn id="5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8" fill="hold">
                      <p:stCondLst>
                        <p:cond delay="indefinite"/>
                      </p:stCondLst>
                      <p:childTnLst>
                        <p:par>
                          <p:cTn id="599" fill="hold">
                            <p:stCondLst>
                              <p:cond delay="0"/>
                            </p:stCondLst>
                            <p:childTnLst>
                              <p:par>
                                <p:cTn id="60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1739880" y="1827000"/>
            <a:ext cx="6943680" cy="36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incorporado TICs como instrumentos cognitivos en el desarrollo de Unidades Didáctica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aprovechamiento de las TICs es el má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 participado activamente en la valoración, adaptación y diseño de recursos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han experimentado modelos de enseñanza alternativos a la inst.direct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1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DB64D0-30D6-4EAF-98A7-727BC158955A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2" dur="indefinite" restart="never" nodeType="tmRoot">
          <p:childTnLst>
            <p:seq>
              <p:cTn id="603" dur="indefinite" nodeType="mainSeq">
                <p:childTnLst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2" fill="hold">
                      <p:stCondLst>
                        <p:cond delay="indefinite"/>
                      </p:stCondLst>
                      <p:childTnLst>
                        <p:par>
                          <p:cTn id="613" fill="hold">
                            <p:stCondLst>
                              <p:cond delay="0"/>
                            </p:stCondLst>
                            <p:childTnLst>
                              <p:par>
                                <p:cTn id="61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fill="hold">
                      <p:stCondLst>
                        <p:cond delay="indefinite"/>
                      </p:stCondLst>
                      <p:childTnLst>
                        <p:par>
                          <p:cTn id="617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fesor I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1739880" y="1827360"/>
            <a:ext cx="6943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se ha puesto en práctica algún modelo de evaluación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la formación recibida es de utilidad en la docencia diaria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72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900" spc="-1" strike="noStrike">
                <a:solidFill>
                  <a:srgbClr val="ffffff"/>
                </a:solidFill>
                <a:latin typeface="Verdana"/>
              </a:rPr>
              <a:t>Si existe sensibilidad hacia el cambio de rol del profesor que supone la integración de las TICs.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316080" y="4189320"/>
            <a:ext cx="1423800" cy="2251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0B158-B154-4589-8FCE-0B40668A40D6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0" dur="indefinite" restart="never" nodeType="tmRoot">
          <p:childTnLst>
            <p:seq>
              <p:cTn id="621" dur="indefinite" nodeType="mainSeq">
                <p:childTnLst>
                  <p:par>
                    <p:cTn id="622" fill="hold">
                      <p:stCondLst>
                        <p:cond delay="indefinite"/>
                      </p:stCondLst>
                      <p:childTnLst>
                        <p:par>
                          <p:cTn id="623" fill="hold">
                            <p:stCondLst>
                              <p:cond delay="0"/>
                            </p:stCondLst>
                            <p:childTnLst>
                              <p:par>
                                <p:cTn id="62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Evaluación del proceso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819080" y="1827360"/>
            <a:ext cx="68641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os recursos son adecuados y se utilizan de forma eficaz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la organización de recursos es idónea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xiste compromiso de todos los participantes: alumnado, profesorado, familias, etc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se observa especial incidencia en la práctica docente y familiar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624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500" spc="-1" strike="noStrike">
                <a:solidFill>
                  <a:srgbClr val="ffffff"/>
                </a:solidFill>
                <a:latin typeface="Verdana"/>
              </a:rPr>
              <a:t>Si el trabajo del coordinador de TICs es adecuado.</a:t>
            </a: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247" name=""/>
          <p:cNvSpPr/>
          <p:nvPr/>
        </p:nvSpPr>
        <p:spPr>
          <a:xfrm>
            <a:off x="200160" y="5181480"/>
            <a:ext cx="1307880" cy="122724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1289160" y="5573880"/>
            <a:ext cx="1054080" cy="988920"/>
          </a:xfrm>
          <a:prstGeom prst="pi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3AA7E-5B86-42EF-A3BC-A1C0561210E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4" dur="indefinite" restart="never" nodeType="tmRoot">
          <p:childTnLst>
            <p:seq>
              <p:cTn id="635" dur="indefinite" nodeType="mainSeq">
                <p:childTnLst>
                  <p:par>
                    <p:cTn id="636" fill="hold">
                      <p:stCondLst>
                        <p:cond delay="indefinite"/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0" fill="hold">
                      <p:stCondLst>
                        <p:cond delay="indefinite"/>
                      </p:stCondLst>
                      <p:childTnLst>
                        <p:par>
                          <p:cTn id="641" fill="hold">
                            <p:stCondLst>
                              <p:cond delay="0"/>
                            </p:stCondLst>
                            <p:childTnLst>
                              <p:par>
                                <p:cTn id="64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8" fill="hold">
                      <p:stCondLst>
                        <p:cond delay="indefinite"/>
                      </p:stCondLst>
                      <p:childTnLst>
                        <p:par>
                          <p:cTn id="649" fill="hold">
                            <p:stCondLst>
                              <p:cond delay="0"/>
                            </p:stCondLst>
                            <p:childTnLst>
                              <p:par>
                                <p:cTn id="6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914280" y="2189160"/>
            <a:ext cx="4559400" cy="266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Aprendizaje sobre/con la tecnologí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Programas basados en la filosofía del refuerz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476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ffffff"/>
                </a:solidFill>
                <a:latin typeface="Verdana"/>
              </a:rPr>
              <a:t>El éxito de una aplicación también depende del contexto de uso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531720" y="3922560"/>
            <a:ext cx="2818080" cy="272268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156120" y="1482840"/>
            <a:ext cx="5778360" cy="3375000"/>
          </a:xfrm>
          <a:prstGeom prst="cloudCallout">
            <a:avLst>
              <a:gd name="adj1" fmla="val -40740"/>
              <a:gd name="adj2" fmla="val 69990"/>
            </a:avLst>
          </a:prstGeom>
          <a:noFill/>
          <a:ln w="2556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C7D26-D0E9-40A7-B650-444C42AC83E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ffffcc"/>
                </a:solidFill>
                <a:latin typeface="Arial"/>
              </a:rPr>
              <a:t>Situación Actual de las TIC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170000" y="2027160"/>
            <a:ext cx="4888080" cy="339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La tecnología no garantiza motiva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Uso del ordenador como un libr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Programas para reforzar conocimientos o bien para mejorar la productividad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Conflicto de competencias entre el ser humano y la máquina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2" name="" descr=""/>
          <p:cNvPicPr/>
          <p:nvPr/>
        </p:nvPicPr>
        <p:blipFill>
          <a:blip r:embed="rId1"/>
          <a:stretch/>
        </p:blipFill>
        <p:spPr>
          <a:xfrm rot="20217600">
            <a:off x="6362640" y="4673160"/>
            <a:ext cx="3149640" cy="304344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399960" y="1444680"/>
            <a:ext cx="6458040" cy="4079880"/>
          </a:xfrm>
          <a:prstGeom prst="cloudCallout">
            <a:avLst>
              <a:gd name="adj1" fmla="val 45106"/>
              <a:gd name="adj2" fmla="val 39532"/>
            </a:avLst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1FF73-0CBC-4CBD-86C8-2C4E478329C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1360080" y="1884240"/>
            <a:ext cx="64594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omentar creación frente a reproducción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Favorecer el aprendizaje interactivo, constructivo, autorregulado y tecnológic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Valorar el medio tecnológico por su valor como instrumento cognitiv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nfatizar la construcción del conoci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Aft>
                <a:spcPts val="1250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Verdana"/>
              </a:rPr>
              <a:t>Estimular el desarrollo de habilidades del pensamiento.</a:t>
            </a: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Aft>
                <a:spcPts val="1250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6945480" y="1590840"/>
            <a:ext cx="2014200" cy="2857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C6DDA-3481-4B62-B4EF-8B36732DF0B9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cc"/>
                </a:solidFill>
                <a:latin typeface="Arial"/>
              </a:rPr>
              <a:t>Principios II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171960" y="1827360"/>
            <a:ext cx="5511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spcAft>
                <a:spcPts val="112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Verdana"/>
              </a:rPr>
              <a:t>Sensibilizarse con la educación en valores relacionada con el uso de las tecnologías.</a:t>
            </a:r>
            <a:endParaRPr b="0" lang="en-US" sz="18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Enfatizar la vertiente cooperativa del aprendizaje: alumnos, profes, padres, etc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Desarrollar habilidades instrumentale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Alternar modelos de enseñanza y aprendizaje variados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spcBef>
                <a:spcPts val="476"/>
              </a:spcBef>
              <a:spcAft>
                <a:spcPts val="1188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ffffff"/>
                </a:solidFill>
                <a:latin typeface="Verdana"/>
              </a:rPr>
              <a:t>Utilizar un recurso tecnológico sólo si merece la pena.</a:t>
            </a: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spcBef>
                <a:spcPts val="476"/>
              </a:spcBef>
              <a:spcAft>
                <a:spcPts val="1188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592200" y="3514680"/>
            <a:ext cx="2014560" cy="2857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F5229-7049-488B-B2EA-D17A05B111D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3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4" dur="5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1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5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6" dur="500" fill="hold"/>
                                        <p:tgtEl>
                                          <p:spTgt spid="1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Alumnado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Verdana"/>
              </a:rPr>
              <a:t>Objetivos del Profesorado </a:t>
            </a: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  <a:p>
            <a:pPr marL="343080" indent="0" algn="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Verdan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Arial"/>
              </a:rPr>
              <a:t>Objetivos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91A4F-608F-43CE-A2E5-8A0E28DC99F4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Document"/>
          <p:cNvSpPr/>
          <p:nvPr/>
        </p:nvSpPr>
        <p:spPr>
          <a:xfrm>
            <a:off x="1190520" y="1666800"/>
            <a:ext cx="4057920" cy="5038920"/>
          </a:xfrm>
          <a:prstGeom prst="pie">
            <a:avLst/>
          </a:pr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Arial"/>
              </a:rPr>
              <a:t>Objetivos del alumnado I</a:t>
            </a: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36600" y="1703160"/>
            <a:ext cx="4011840" cy="454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Construir aprendizaje del currículo usando los medios tecnológico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Mejorar habilidades del pensamiento adquiriendo estrategias inteligent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Desarrollar el sentido crítico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ffffcc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333300"/>
                </a:solidFill>
                <a:latin typeface="Verdana"/>
              </a:rPr>
              <a:t>Adquirir una adecuada formación en valores.</a:t>
            </a: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spcAft>
                <a:spcPts val="1375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ffff"/>
              </a:solidFill>
              <a:latin typeface="Verdana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5664240" y="3857760"/>
            <a:ext cx="2876400" cy="25336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FB2F2-ADC9-41D3-B4B1-EBB514D92AC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4-18T10:41:53Z</dcterms:created>
  <dc:creator> fpp</dc:creator>
  <dc:description/>
  <dc:language>en-US</dc:language>
  <cp:lastModifiedBy>fpp</cp:lastModifiedBy>
  <dcterms:modified xsi:type="dcterms:W3CDTF">2007-05-05T22:15:31Z</dcterms:modified>
  <cp:revision>95</cp:revision>
  <dc:subject/>
  <dc:title>Proyecto de TICs en un  Centro de Educación Primaria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ArticulatePath">
    <vt:lpwstr>Proyecto de TICs en un</vt:lpwstr>
  </property>
  <property fmtid="{D5CDD505-2E9C-101B-9397-08002B2CF9AE}" pid="3" name="LastUsedName">
    <vt:lpwstr>Proyecto de TICs en un</vt:lpwstr>
  </property>
</Properties>
</file>